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5.wmf" ContentType="image/x-wmf"/>
  <Override PartName="/ppt/media/image6.wmf" ContentType="image/x-wmf"/>
  <Override PartName="/ppt/media/image12.gif" ContentType="image/gif"/>
  <Override PartName="/ppt/media/image15.png" ContentType="image/png"/>
  <Override PartName="/ppt/media/image3.jpeg" ContentType="image/jpeg"/>
  <Override PartName="/ppt/media/image30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media/image10.png" ContentType="image/png"/>
  <Override PartName="/ppt/media/image1.jpeg" ContentType="image/jpeg"/>
  <Override PartName="/ppt/media/image14.gif" ContentType="image/gif"/>
  <Override PartName="/ppt/media/image17.png" ContentType="image/png"/>
  <Override PartName="/ppt/media/image16.png" ContentType="image/png"/>
  <Override PartName="/ppt/media/image19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gif" ContentType="image/gif"/>
  <Override PartName="/ppt/media/image21.jpeg" ContentType="image/jpe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6-12-28T02:12:08.388000000" idx="1">
    <p:pos x="-1041" y="-356"/>
    <p:text/>
  </p:cm>
  <p:cm authorId="0" dt="2006-12-28T02:12:25.914000000" idx="2">
    <p:pos x="-950" y="-392"/>
    <p:text/>
  </p:cm>
  <p:cm authorId="0" dt="2006-12-28T02:12:27.506000000" idx="3">
    <p:pos x="-870" y="-3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2CE-C3EE-4187-B3D2-A51DF99F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552-5208-446C-B896-1061D8B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D55-13C2-4294-8888-1E141B39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591-EDFC-478D-BCA3-E176DA6E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5AD-02F6-4FCD-80B2-013AD62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CD2-37F6-4EAF-9395-DFE2B12E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7D5-FD9B-495A-9021-87851E2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E6D-4730-41C4-B17F-A6669B8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E06-3FC3-4AB8-9427-B6D1945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229-1C02-412E-BE30-929093D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4C7-B35A-4FF8-BE7C-9FC3D9F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CC7-2E1B-4FBF-A20E-2CC9A3C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0C2-FF6D-4EBA-B8E3-8CBE4FAA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" Target="slide12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" Target="slide12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1403280" y="2637000"/>
            <a:ext cx="640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чева Анжелика Алексеев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900000" y="5013360"/>
            <a:ext cx="36007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удентка 4-го курса КГП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7380360" y="2602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2010 год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95280" y="189000"/>
            <a:ext cx="145908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4365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1314000" y="2612160"/>
            <a:ext cx="68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319760" y="3534480"/>
            <a:ext cx="436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84000" y="37944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II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ту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Назовите фамилию ученого, который впервые ввел тер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«квадратное уравнение»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0" y="2637000"/>
          <a:ext cx="2879640" cy="51732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74" descr="вольф"/>
          <p:cNvPicPr/>
          <p:nvPr/>
        </p:nvPicPr>
        <p:blipFill>
          <a:blip r:embed="rId1"/>
          <a:stretch/>
        </p:blipFill>
        <p:spPr>
          <a:xfrm>
            <a:off x="295200" y="2565360"/>
            <a:ext cx="288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252360" y="-4412160"/>
            <a:ext cx="182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льф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Христи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ро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ащ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 знаменитый  немецкий философ, родился в 1679 г. в Бреславле, в  семье простого  ремеслен-ника, изучал в Йене сначала богословие, потом математику и  филосо-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  его к сочинению Чирнгаузен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chirnhaus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a ment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 обратили  на себя внимание Лейбница. Вскоре (1703) появился первый самостоятельный  труд Вольфа, доставивший ему право читать лекции по математике и  философии в лейпцигском университ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лед затем Вольф напечатал несколько сочинений по разным отде-лам математики,  прославивших  его  далеко  за  пределами Германии.  Вторжение  Кар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 Саксонию  (1706)  вынудило  Вольфа оставить Лейпциг;  в 1707 г. он был  приглашен, по рекомендации  Лейбница, на кафедру математики и естествознания в Гал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вязи с  восшествием  на престол  Фридрих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чень  ценившего Вольфа, он был назначен вице-канцлером университета в Галле и про-фессором естественного и международного пра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43 году Вольф назначен канцлером университета, а в 1745году возведен в имперское баронское достоинство. Умер в 1754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971640" y="981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При каких значениях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уравн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– 3х + 2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– 3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 имеет действительных корней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09840" y="404640"/>
            <a:ext cx="20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11280" y="2421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Решение: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411280" y="2637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ем дискриминант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 =  в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4а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68360" y="299736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9 – 4(2а – 3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268360" y="3357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9 – 8а + 12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195640" y="371628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21 – 8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332000" y="400536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дратное уравнение не имеет действительных корней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м случае, когда дискриминант отрицательный, т.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410200" y="46274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– 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050920" y="4941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21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253512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411280" y="5300640"/>
            <a:ext cx="16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1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2484360" y="566100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1547640" y="6021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21/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0" descr="Graphic5"/>
          <p:cNvPicPr/>
          <p:nvPr/>
        </p:nvPicPr>
        <p:blipFill>
          <a:blip r:embed="rId1"/>
          <a:stretch/>
        </p:blipFill>
        <p:spPr>
          <a:xfrm>
            <a:off x="7164360" y="189000"/>
            <a:ext cx="1800360" cy="1593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3" descr="simb"/>
          <p:cNvPicPr/>
          <p:nvPr/>
        </p:nvPicPr>
        <p:blipFill>
          <a:blip r:embed="rId2"/>
          <a:stretch/>
        </p:blipFill>
        <p:spPr>
          <a:xfrm rot="19849800">
            <a:off x="468000" y="5229000"/>
            <a:ext cx="10126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468360" y="404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III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тур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95280" y="1000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24000" y="1052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неприведенного квадратного уравнения общего ви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най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84360" y="20811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Назовите фамилию английского математика, который ввел тер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мин «дискриминант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3357720"/>
          <a:ext cx="6096240" cy="718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34" descr="сильвестр"/>
          <p:cNvPicPr/>
          <p:nvPr/>
        </p:nvPicPr>
        <p:blipFill>
          <a:blip r:embed="rId1"/>
          <a:stretch/>
        </p:blipFill>
        <p:spPr>
          <a:xfrm>
            <a:off x="6588000" y="3357720"/>
            <a:ext cx="2370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2421000"/>
            <a:ext cx="5905440" cy="4437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195640" y="968040"/>
            <a:ext cx="66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Изобразить множество решений системы неравенст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" descr="animomo_book2"/>
          <p:cNvPicPr/>
          <p:nvPr/>
        </p:nvPicPr>
        <p:blipFill>
          <a:blip r:embed="rId2"/>
          <a:stretch/>
        </p:blipFill>
        <p:spPr>
          <a:xfrm>
            <a:off x="7308720" y="3789360"/>
            <a:ext cx="1440000" cy="2747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6"/>
          <p:cNvSpPr/>
          <p:nvPr/>
        </p:nvSpPr>
        <p:spPr>
          <a:xfrm>
            <a:off x="755640" y="33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4211640" y="155736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4356000" y="155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Y = IxI – 1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Y = - x</a:t>
            </a:r>
            <a:r>
              <a:rPr b="1" lang="en-U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2IxI +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684360" y="3333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0" y="98100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3 – 16 веках даются отдельные методы решения различ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дратных уравнений. Слияние этих методов произвел в 1544 го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ецкий математик. Это настоящее событие в математик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39640" y="2421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Назовите фамилию этого ученого.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3357720"/>
          <a:ext cx="4824360" cy="64764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719280"/>
                <a:gridCol w="720720"/>
                <a:gridCol w="719280"/>
                <a:gridCol w="649080"/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42" descr="Штифель"/>
          <p:cNvPicPr/>
          <p:nvPr/>
        </p:nvPicPr>
        <p:blipFill>
          <a:blip r:embed="rId1"/>
          <a:stretch/>
        </p:blipFill>
        <p:spPr>
          <a:xfrm>
            <a:off x="6372360" y="3429000"/>
            <a:ext cx="2587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GCH_2_39_05"/>
          <p:cNvPicPr/>
          <p:nvPr/>
        </p:nvPicPr>
        <p:blipFill>
          <a:blip r:embed="rId1"/>
          <a:stretch/>
        </p:blipFill>
        <p:spPr>
          <a:xfrm>
            <a:off x="755640" y="2852640"/>
            <a:ext cx="2303640" cy="222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f_036i"/>
          <p:cNvPicPr/>
          <p:nvPr/>
        </p:nvPicPr>
        <p:blipFill>
          <a:blip r:embed="rId2"/>
          <a:stretch/>
        </p:blipFill>
        <p:spPr>
          <a:xfrm>
            <a:off x="4932360" y="2276640"/>
            <a:ext cx="266400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3135240" y="3100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24360" y="1517040"/>
            <a:ext cx="2448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,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203640" y="3971880"/>
            <a:ext cx="1322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12"/>
          <p:cNvSpPr txBox="1"/>
          <p:nvPr/>
        </p:nvSpPr>
        <p:spPr>
          <a:xfrm>
            <a:off x="395280" y="260280"/>
            <a:ext cx="561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90000"/>
                  </a:srgbClr>
                </a:solidFill>
                <a:latin typeface="Arial"/>
              </a:rPr>
              <a:t>Реб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9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788508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50920" y="620640"/>
            <a:ext cx="428472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корней имеет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2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=0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рдината вершины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9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е решая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5х+1=0, найти значение выражения 6(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-3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4=16х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умма координат точки пересечения графиков функций у=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=х+2, у=-0,5х+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Найти значение выражения 8/3(√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2), где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рни уравнения 4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+2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Решить уравнение 10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+4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Дискриминант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4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5=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Найти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36=0, принадлежащий отрезку [1; 2,5]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Наибольший корень уравнения 2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7х+21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твет: 1,3,9,2,5,6,4,8,10,7,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572000" y="692280"/>
            <a:ext cx="144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643280" y="620640"/>
            <a:ext cx="4284720" cy="60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Абсцисса вершины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17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е решая уравнения 8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х+16=0, найти значение выражения 16(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+1/2х1х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айти корень уравнения 2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-56=0, принадлежащий отрезку [6; 9]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Наибольший корень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1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4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Дискриминант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2-4х+3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81=18х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Сколько корней имеет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5х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+6х=0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Сумма координат точки пересечения графиков функций у=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2х+2 , у=4-х, у=4х-6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Решить уравнение 11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8х+3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Найти значение выражения 9/35|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+7,5 √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рни уравнения 9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7х+4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твет: 1,3,8,4,2,7,5,10,6,9,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348000" y="189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Тест - цепоч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1"/>
          <p:cNvSpPr/>
          <p:nvPr/>
        </p:nvSpPr>
        <p:spPr>
          <a:xfrm>
            <a:off x="571680" y="4979880"/>
            <a:ext cx="299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1835280" y="3102120"/>
            <a:ext cx="6256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0" y="482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1187280" y="4552200"/>
            <a:ext cx="43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611280" y="333360"/>
            <a:ext cx="36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упер - иг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464000" y="69228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зьянок резвых ст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ласть поевши, развлекалас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х в квадрате часть восьм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поляне забавляла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двенадцать по лианам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али прыгать, повисая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лько ж было обезьяно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ы скажи мне, в этой ста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539640" y="3573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азовите фамилию знаменитого  индийского математика 12 век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который составил и решил эту задачу. Решение его свидельству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ет о том, что он знал о двузначности  корней квадратного уравне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124000" y="4941720"/>
          <a:ext cx="5184720" cy="574920"/>
        </p:xfrm>
        <a:graphic>
          <a:graphicData uri="http://schemas.openxmlformats.org/drawingml/2006/table">
            <a:tbl>
              <a:tblPr/>
              <a:tblGrid>
                <a:gridCol w="690480"/>
                <a:gridCol w="677880"/>
                <a:gridCol w="648000"/>
                <a:gridCol w="647640"/>
                <a:gridCol w="647640"/>
                <a:gridCol w="649080"/>
                <a:gridCol w="648000"/>
                <a:gridCol w="576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82" descr=""/>
          <p:cNvPicPr/>
          <p:nvPr/>
        </p:nvPicPr>
        <p:blipFill>
          <a:blip r:embed="rId1"/>
          <a:stretch/>
        </p:blipFill>
        <p:spPr>
          <a:xfrm rot="20503200">
            <a:off x="1547640" y="1052280"/>
            <a:ext cx="15987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140360" y="260280"/>
            <a:ext cx="47512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«Предмет математики настолько серьёзен, что нужно не упускать случая делать его немного занимательным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276640"/>
            <a:ext cx="7921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ворческая активность, находчивость, изобретательность и смекалка достигают высшего напряжения и получают отличную тренировку, когда мысль охвачена стремлением решить заинтересовавшую задачу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айденное решение или даже чтение изложенного остроумного решения всегда вызывает умственное удовлетворение, эстетическое наслажд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J0239975"/>
          <p:cNvPicPr/>
          <p:nvPr/>
        </p:nvPicPr>
        <p:blipFill>
          <a:blip r:embed="rId1"/>
          <a:stretch/>
        </p:blipFill>
        <p:spPr>
          <a:xfrm rot="20369400">
            <a:off x="1042920" y="549360"/>
            <a:ext cx="14241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D00172_"/>
          <p:cNvPicPr/>
          <p:nvPr/>
        </p:nvPicPr>
        <p:blipFill>
          <a:blip r:embed="rId2"/>
          <a:stretch/>
        </p:blipFill>
        <p:spPr>
          <a:xfrm>
            <a:off x="6227640" y="50846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G00135_"/>
          <p:cNvPicPr/>
          <p:nvPr/>
        </p:nvPicPr>
        <p:blipFill>
          <a:blip r:embed="rId3"/>
          <a:stretch/>
        </p:blipFill>
        <p:spPr>
          <a:xfrm>
            <a:off x="1547640" y="5445000"/>
            <a:ext cx="2448000" cy="88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assic Wedding Back Arrow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lassic Wedding Back Arrow"/>
          <p:cNvPicPr/>
          <p:nvPr/>
        </p:nvPicPr>
        <p:blipFill>
          <a:blip r:embed="rId6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5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738520" cy="2589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rot="21083400">
            <a:off x="0" y="5589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47640" y="1484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 rot="514200">
            <a:off x="6300360" y="5877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 rot="1110000">
            <a:off x="178560" y="37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 rot="20379600">
            <a:off x="179280" y="404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 rot="742800">
            <a:off x="323640" y="213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 rot="20421600">
            <a:off x="360" y="4436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 rot="20538600">
            <a:off x="360" y="278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524720" y="60958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 rot="20404200">
            <a:off x="5364000" y="58770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 rot="20792400">
            <a:off x="2700720" y="58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 rot="706200">
            <a:off x="394920" y="1052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690000">
            <a:off x="323640" y="3141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 rot="765600">
            <a:off x="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 rot="20389200">
            <a:off x="360" y="14839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 rot="883800">
            <a:off x="394920" y="5013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1050000">
            <a:off x="1402920" y="6095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 rot="690000">
            <a:off x="323640" y="6092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4140360" y="5877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9"/>
          <p:cNvSpPr/>
          <p:nvPr/>
        </p:nvSpPr>
        <p:spPr>
          <a:xfrm flipH="1" rot="516600">
            <a:off x="8244000" y="5877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 flipH="1" rot="20490000">
            <a:off x="8423280" y="407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1"/>
          <p:cNvSpPr/>
          <p:nvPr/>
        </p:nvSpPr>
        <p:spPr>
          <a:xfrm flipH="1" rot="1220400">
            <a:off x="8421840" y="691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2"/>
          <p:cNvSpPr/>
          <p:nvPr/>
        </p:nvSpPr>
        <p:spPr>
          <a:xfrm flipH="1" rot="20857200">
            <a:off x="849600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3"/>
          <p:cNvSpPr/>
          <p:nvPr/>
        </p:nvSpPr>
        <p:spPr>
          <a:xfrm flipH="1" rot="1178400">
            <a:off x="8243640" y="4723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4"/>
          <p:cNvSpPr/>
          <p:nvPr/>
        </p:nvSpPr>
        <p:spPr>
          <a:xfrm flipH="1" rot="1061400">
            <a:off x="8242920" y="306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5"/>
          <p:cNvSpPr/>
          <p:nvPr/>
        </p:nvSpPr>
        <p:spPr>
          <a:xfrm flipH="1" rot="20893800">
            <a:off x="8677080" y="1339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 flipH="1" rot="20910000">
            <a:off x="8567280" y="342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7"/>
          <p:cNvSpPr/>
          <p:nvPr/>
        </p:nvSpPr>
        <p:spPr>
          <a:xfrm flipH="1" rot="20834400">
            <a:off x="80625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 flipH="1" rot="1210800">
            <a:off x="8242920" y="17712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 flipH="1" rot="20716200">
            <a:off x="8677080" y="5300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 flipH="1" rot="1556400">
            <a:off x="4642920" y="60958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1"/>
          <p:cNvSpPr/>
          <p:nvPr/>
        </p:nvSpPr>
        <p:spPr>
          <a:xfrm rot="690000">
            <a:off x="7019640" y="5876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2"/>
          <p:cNvSpPr/>
          <p:nvPr/>
        </p:nvSpPr>
        <p:spPr>
          <a:xfrm rot="21083400">
            <a:off x="2050920" y="60958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3"/>
          <p:cNvSpPr/>
          <p:nvPr/>
        </p:nvSpPr>
        <p:spPr>
          <a:xfrm rot="20421600">
            <a:off x="900360" y="60955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 rot="20570400">
            <a:off x="5796360" y="60955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5"/>
          <p:cNvSpPr/>
          <p:nvPr/>
        </p:nvSpPr>
        <p:spPr>
          <a:xfrm rot="690000">
            <a:off x="3276360" y="6092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 rot="514200">
            <a:off x="615600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7"/>
          <p:cNvSpPr/>
          <p:nvPr/>
        </p:nvSpPr>
        <p:spPr>
          <a:xfrm>
            <a:off x="7380360" y="2192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 rot="20404200">
            <a:off x="5219640" y="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9"/>
          <p:cNvSpPr/>
          <p:nvPr/>
        </p:nvSpPr>
        <p:spPr>
          <a:xfrm rot="20792400">
            <a:off x="2556360" y="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 rot="1050000">
            <a:off x="1258560" y="2188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1"/>
          <p:cNvSpPr/>
          <p:nvPr/>
        </p:nvSpPr>
        <p:spPr>
          <a:xfrm>
            <a:off x="3995640" y="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 flipH="1" rot="1556400">
            <a:off x="4497840" y="2192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3"/>
          <p:cNvSpPr/>
          <p:nvPr/>
        </p:nvSpPr>
        <p:spPr>
          <a:xfrm rot="690000">
            <a:off x="6875280" y="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 rot="21083400">
            <a:off x="1906560" y="2192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 rot="20570400">
            <a:off x="5652000" y="2188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6"/>
          <p:cNvSpPr/>
          <p:nvPr/>
        </p:nvSpPr>
        <p:spPr>
          <a:xfrm rot="690000">
            <a:off x="3131640" y="21564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7"/>
          <p:cNvSpPr/>
          <p:nvPr/>
        </p:nvSpPr>
        <p:spPr>
          <a:xfrm rot="742800">
            <a:off x="75528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8"/>
          <p:cNvSpPr/>
          <p:nvPr/>
        </p:nvSpPr>
        <p:spPr>
          <a:xfrm rot="690000">
            <a:off x="8459280" y="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80"/>
          <p:cNvSpPr txBox="1"/>
          <p:nvPr/>
        </p:nvSpPr>
        <p:spPr>
          <a:xfrm>
            <a:off x="1116000" y="1197000"/>
            <a:ext cx="6621480" cy="27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ые уравнения: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81"/>
          <p:cNvSpPr txBox="1"/>
          <p:nvPr/>
        </p:nvSpPr>
        <p:spPr>
          <a:xfrm>
            <a:off x="1042920" y="2276640"/>
            <a:ext cx="655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ди события факт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6300720" y="47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6012000" y="5157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рок - иг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 flipV="1">
            <a:off x="-126720" y="-1598400"/>
            <a:ext cx="9540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68920" y="28260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ЦЕЛ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1197000"/>
            <a:ext cx="275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Образовательн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49040" y="1550880"/>
            <a:ext cx="64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ить навыки решения квадратных уравнений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й, связанных с ними, различными способ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99360" y="2781360"/>
            <a:ext cx="64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способность мыс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ть, решать учебные задачи и работать с дополн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ой литератур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93480" y="24210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Развивающ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21480" y="378936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Воспитательн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2440" y="4221000"/>
            <a:ext cx="64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предмету, формировать комму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ативные и волевые качества, воспитывать твор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кую ли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8" descr="Classic Wedding Back Arrow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Classic Wedding Back Arrow"/>
          <p:cNvPicPr/>
          <p:nvPr/>
        </p:nvPicPr>
        <p:blipFill>
          <a:blip r:embed="rId3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AG00135_"/>
          <p:cNvPicPr/>
          <p:nvPr/>
        </p:nvPicPr>
        <p:blipFill>
          <a:blip r:embed="rId4"/>
          <a:stretch/>
        </p:blipFill>
        <p:spPr>
          <a:xfrm>
            <a:off x="2843280" y="5421240"/>
            <a:ext cx="3600360" cy="11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2" descr="41"/>
          <p:cNvPicPr/>
          <p:nvPr/>
        </p:nvPicPr>
        <p:blipFill>
          <a:blip r:embed="rId5"/>
          <a:stretch/>
        </p:blipFill>
        <p:spPr>
          <a:xfrm>
            <a:off x="324000" y="4221000"/>
            <a:ext cx="143964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741960" y="5133600"/>
            <a:ext cx="4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73080" y="3603600"/>
            <a:ext cx="2514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708360" y="513756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384880" y="3948120"/>
            <a:ext cx="456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68360" y="428796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39640" y="620640"/>
            <a:ext cx="808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Не в театре телевизионно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А средь школьных стен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Мы проводим без куде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у под названием «Поле чудес»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а увлекатель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 познавательн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а не феерическая,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А математическая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01"/>
          <p:cNvPicPr/>
          <p:nvPr/>
        </p:nvPicPr>
        <p:blipFill>
          <a:blip r:embed="rId1"/>
          <a:stretch/>
        </p:blipFill>
        <p:spPr>
          <a:xfrm>
            <a:off x="250920" y="3573360"/>
            <a:ext cx="169056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49"/>
          <p:cNvPicPr/>
          <p:nvPr/>
        </p:nvPicPr>
        <p:blipFill>
          <a:blip r:embed="rId2"/>
          <a:stretch/>
        </p:blipFill>
        <p:spPr>
          <a:xfrm>
            <a:off x="7020000" y="260280"/>
            <a:ext cx="1901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556000" y="333360"/>
            <a:ext cx="518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игр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1700280"/>
            <a:ext cx="917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гра максимально приближена к телевизионному варианту, исключени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представляют математические паузы после каждого тура игры, в кото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рые вовлечен весь коллектив учащих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а игровом круге есть кроме числовых секторов таки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П –  приз ( полагается сувенир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Б –  банкрот ( все ранее набранные очки сгорают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Ш – шанс ( можно обратиться за помощью к люб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з присутствующи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У  учащихся есть  возможность  получить оценку.  Для этого они долж-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ы принимать активное участие в математических паузах, решая задачи, которые им будут предложен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lassic Wedding Back Arrow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lassic Wedding Back Arrow"/>
          <p:cNvPicPr/>
          <p:nvPr/>
        </p:nvPicPr>
        <p:blipFill>
          <a:blip r:embed="rId3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Рис9"/>
          <p:cNvPicPr/>
          <p:nvPr/>
        </p:nvPicPr>
        <p:blipFill>
          <a:blip r:embed="rId4"/>
          <a:stretch/>
        </p:blipFill>
        <p:spPr>
          <a:xfrm>
            <a:off x="179280" y="189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mage5571"/>
          <p:cNvPicPr/>
          <p:nvPr/>
        </p:nvPicPr>
        <p:blipFill>
          <a:blip r:embed="rId5"/>
          <a:stretch/>
        </p:blipFill>
        <p:spPr>
          <a:xfrm>
            <a:off x="4427640" y="5300640"/>
            <a:ext cx="1657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32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32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179280" y="98100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ниге  Владимира Левшина и Эмилии Александровой  «Путешествие по Карликании и Аль-Джебре» есть такая загадка: как называется зако-рючка, которая похожа на сачок для ловли бабочек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804000" y="198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62c00"/>
                </a:solidFill>
                <a:latin typeface="Arial"/>
              </a:rPr>
              <a:t>радик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55640" y="2492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Как в древности называли радикал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213000"/>
          <a:ext cx="3456000" cy="57636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360"/>
                <a:gridCol w="576000"/>
                <a:gridCol w="576360"/>
                <a:gridCol w="574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4"/>
          <p:cNvSpPr/>
          <p:nvPr/>
        </p:nvSpPr>
        <p:spPr>
          <a:xfrm>
            <a:off x="663480" y="281160"/>
            <a:ext cx="29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ту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5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305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1989000"/>
            <a:ext cx="4643280" cy="435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00790_"/>
          <p:cNvPicPr/>
          <p:nvPr/>
        </p:nvPicPr>
        <p:blipFill>
          <a:blip r:embed="rId2"/>
          <a:stretch/>
        </p:blipFill>
        <p:spPr>
          <a:xfrm>
            <a:off x="987480" y="404640"/>
            <a:ext cx="193032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G00004_"/>
          <p:cNvPicPr/>
          <p:nvPr/>
        </p:nvPicPr>
        <p:blipFill>
          <a:blip r:embed="rId3"/>
          <a:stretch/>
        </p:blipFill>
        <p:spPr>
          <a:xfrm>
            <a:off x="6012000" y="5516640"/>
            <a:ext cx="1150920" cy="11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lassic Wedding Back Arrow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lassic Wedding Back Arrow"/>
          <p:cNvPicPr/>
          <p:nvPr/>
        </p:nvPicPr>
        <p:blipFill>
          <a:blip r:embed="rId6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4284720" y="260280"/>
            <a:ext cx="4716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ревний город (около 2000 до н. э.), в которого решали задачи, связанные с нахождением площадей земельных участк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Итальянский математик, впервые изложивший в «Книге абака» (1202 г.) формулы решения квадратных уравнений по образцу Ал-Хорез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вадратное уравнение, в котором один из коэффициентов (с или в) равен нулю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Уравнение вида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=0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го, обычно, записывают перед буквенным множество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Функция заданная равенством у =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к называется уравнение вида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с=0, где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Индийский учёный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), который изложил общее правило решения квадратных уравнений, приведённых к канонической форме: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ревнегреческий математик, который много сделал в области решения уравнения, умело сводя их к неполны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начение х, при подстановки которого в уравнение получается верное равенств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оздатель современной буквенной символики, автор знаменитой теоремы, которая выражает зависимость между корнями и коэффициентами уравн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к называется выраж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звание графика квадратичной функ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вадратное уравнение, старший коэффициент которого равен 1 называетс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619280" y="2781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619280" y="27320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  в  и  л  о  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187280" y="350028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  е  п  о  л н  о 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414800" y="4437000"/>
            <a:ext cx="24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о  э  ф ф и  ц  и  е  н  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0" y="518004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в  а д  р  а  т  и  ч  н  а  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39640" y="402912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в  а  д  р  а  т  н  о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900000" y="5589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 и  к  в  а  д  р  а  т  н  о 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268360" y="30924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  и  б  о  н а  ч  ч 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187280" y="273204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187280" y="29178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187280" y="3092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18728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187280" y="3668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39640" y="350028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539640" y="4797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539640" y="3860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2987640" y="402912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539640" y="4221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539640" y="443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539640" y="46054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539640" y="3668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539640" y="5013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1619280" y="3645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539640" y="537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541800" y="558972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1619280" y="4797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3419640" y="251604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3419640" y="40291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2268360" y="3284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298944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2987640" y="46054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2987640" y="47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2987640" y="4941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2989440" y="51800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2987640" y="5373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5"/>
          <p:cNvSpPr/>
          <p:nvPr/>
        </p:nvSpPr>
        <p:spPr>
          <a:xfrm>
            <a:off x="298764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2987640" y="59500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3419640" y="2205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3419640" y="23493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3419640" y="2708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3419640" y="292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41964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3419640" y="3452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419640" y="3645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3419640" y="386064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4067280" y="29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4068720" y="3284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06728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1619280" y="3860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1619280" y="429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1619280" y="46054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2268360" y="25160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226836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2298600" y="3689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684360" y="40464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26920" y="9079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ешить уравнен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735120" y="169560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2560" y="2297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47640" y="2060640"/>
            <a:ext cx="41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тим, что х +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т.е.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332000" y="25588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едем обе части уравнения в квадрат,  получаем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58920" y="2852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х + 6 = 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4х + 4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547640" y="314172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едем полученное уравнение к ви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28920" y="3495600"/>
            <a:ext cx="17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х – 2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61928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476360" y="3860640"/>
            <a:ext cx="563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теоремам Виета имеем, что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547640" y="41497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ывая замечание, получаем х = 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5640" y="4797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-2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71920" y="5295960"/>
            <a:ext cx="75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Для более полного решения необходимо сделать проверку 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9" descr="FIL178"/>
          <p:cNvPicPr/>
          <p:nvPr/>
        </p:nvPicPr>
        <p:blipFill>
          <a:blip r:embed="rId1"/>
          <a:stretch/>
        </p:blipFill>
        <p:spPr>
          <a:xfrm>
            <a:off x="6948360" y="189000"/>
            <a:ext cx="1952640" cy="1762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3564000" y="836640"/>
                <a:ext cx="2160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4:11:19Z</dcterms:created>
  <dc:creator>Admin</dc:creator>
  <dc:description/>
  <dc:language>en-US</dc:language>
  <cp:lastModifiedBy>Пользователь</cp:lastModifiedBy>
  <dcterms:modified xsi:type="dcterms:W3CDTF">2010-06-04T09:38:25Z</dcterms:modified>
  <cp:revision>46</cp:revision>
  <dc:subject/>
  <dc:title>Слайд 1</dc:title>
</cp:coreProperties>
</file>